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590B-B7C4-4375-A9FE-A9DD8243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BF4-32A7-4E0E-A0E6-A604337C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56CC-FE20-409B-8CD5-17470E65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ED0-D599-4C1D-BE69-CA5DE9D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D25-C402-4EA8-B9AE-AC819FF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C0F-DE05-4C25-B95C-7E086963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C7F-7E1C-427B-BE7D-BACA3DCB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D91-0ADD-4122-87B7-ECB93B45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DE0-B278-4BB2-89A4-19534534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6EFB-D579-4E4B-AE17-54D2421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3FB-CFA0-47A6-832C-310AD5B8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F38-F614-46F1-B6AC-5ED0A78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3697-5BB3-4CD3-A037-C4065CA7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42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320" y="0"/>
            <a:ext cx="2597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ÍT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ES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U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8280" y="76320"/>
            <a:ext cx="6228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harlas de presentación 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ácticas en Experimenta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ombre y Apell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Carr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136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800" y="152280"/>
            <a:ext cx="7927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exo 2: Consejos de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90512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- Duración y fluidez: ensayar varias veces la charla en situación de exposición para que tenga la duración requerida (15 min + preguntas) y un nivel de fluidez que la haga entendible y am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- Lenguaje verbal: técnico y preciso, no coloquial; no abusar del divague y el anecdotario, aunque un to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 simpatía siempre mantiene atenta a la audi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- Lenguaje corporal: establecer contacto con la aud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 forma visual de manera global y no personal; habla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 clara y a volumen audible; no transparentar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rvios propios en el movimiento del punt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51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753560" y="304920"/>
            <a:ext cx="2239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01720" y="2133720"/>
            <a:ext cx="631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 midió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diante el método de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 obtuvo un valor de / se observa qu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piedad evoluciona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 acuerdo/desacuerdo con la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s posibles fuentes de error en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diciones s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 pueden ser eventualmente corregida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213372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ntroducción </a:t>
            </a:r>
            <a:r>
              <a:rPr b="1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Experimental </a:t>
            </a:r>
            <a:r>
              <a:rPr b="1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sultados </a:t>
            </a:r>
            <a:r>
              <a:rPr b="1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iscus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nclusiones </a:t>
            </a:r>
            <a:r>
              <a:rPr b="1" lang="en-US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Discus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Arial"/>
              </a:rPr>
              <a:t>(plus ultra)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400" y="7632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diapos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62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754640" y="304920"/>
            <a:ext cx="2567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oti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400" y="7632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diapos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2743200"/>
            <a:ext cx="62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r qué es relevante o nos interesa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propiedad que report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a motivación puede ser general e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ísica o específica a un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72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755360" y="304920"/>
            <a:ext cx="294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080" y="194148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Evolución histór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080" y="289548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nceptos físicos relevantes al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vestigado y generalmente acep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1480" y="419112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ntrover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760" y="763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-2 dia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84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754280" y="304920"/>
            <a:ext cx="475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Método experi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120" y="2209680"/>
            <a:ext cx="33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rincipio de funcionami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e la/s técnicas emple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29920" y="2209680"/>
            <a:ext cx="39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etalles técnicos: estado prev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y eventualmente desarrollo prop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1320" y="21780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60" y="763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-2 dia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96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754280" y="304920"/>
            <a:ext cx="27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Resulta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760" y="763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-4 dia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560" y="2209680"/>
            <a:ext cx="63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resentación y descripción de los resultados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prin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106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8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54640" y="304920"/>
            <a:ext cx="2491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scus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60" y="7632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-2 dia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2160" y="2070000"/>
            <a:ext cx="76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ración de datos propios con los reportados en la lit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ración con resultados obtenidos mediante otra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mparación con resultados obtenidos en otros materiales/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Ajuste de datos experimentales con modelos teó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22860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la práctica es sencilla, Resultados y Discusión pueden auna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117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754640" y="304920"/>
            <a:ext cx="3177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400" y="7632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 diapos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6440" y="1981080"/>
            <a:ext cx="7194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ntéticas del trabajo realizado,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tenidos y las discusiones que se plantea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ueden discutirse aquí las sugerencias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joras de equipamiento o metodologí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dición y análisi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exto en estilo telegráfico que apoye a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esentación oral más expl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es el espacio para compartir im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/o emociones asociadas a la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 realizar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1905120"/>
            <a:chOff x="0" y="0"/>
            <a:chExt cx="9144000" cy="1905120"/>
          </a:xfrm>
        </p:grpSpPr>
        <p:graphicFrame>
          <p:nvGraphicFramePr>
            <p:cNvPr id="127" name=""/>
            <p:cNvGraphicFramePr/>
            <p:nvPr/>
          </p:nvGraphicFramePr>
          <p:xfrm>
            <a:off x="0" y="0"/>
            <a:ext cx="9140760" cy="182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0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80" y="1066680"/>
              <a:ext cx="1600200" cy="770040"/>
            </a:xfrm>
            <a:custGeom>
              <a:avLst/>
              <a:gdLst/>
              <a:ahLst/>
              <a:rect l="l" t="t" r="r" b="b"/>
              <a:pathLst>
                <a:path w="1008" h="485">
                  <a:moveTo>
                    <a:pt x="0" y="481"/>
                  </a:moveTo>
                  <a:cubicBezTo>
                    <a:pt x="104" y="469"/>
                    <a:pt x="204" y="461"/>
                    <a:pt x="288" y="385"/>
                  </a:cubicBezTo>
                  <a:cubicBezTo>
                    <a:pt x="372" y="309"/>
                    <a:pt x="445" y="52"/>
                    <a:pt x="506" y="26"/>
                  </a:cubicBezTo>
                  <a:cubicBezTo>
                    <a:pt x="567" y="0"/>
                    <a:pt x="615" y="177"/>
                    <a:pt x="653" y="227"/>
                  </a:cubicBezTo>
                  <a:cubicBezTo>
                    <a:pt x="691" y="277"/>
                    <a:pt x="696" y="293"/>
                    <a:pt x="731" y="327"/>
                  </a:cubicBezTo>
                  <a:cubicBezTo>
                    <a:pt x="766" y="361"/>
                    <a:pt x="818" y="407"/>
                    <a:pt x="864" y="433"/>
                  </a:cubicBezTo>
                  <a:cubicBezTo>
                    <a:pt x="910" y="459"/>
                    <a:pt x="964" y="485"/>
                    <a:pt x="1008" y="4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9480" y="990720"/>
              <a:ext cx="2362320" cy="799920"/>
            </a:xfrm>
            <a:custGeom>
              <a:avLst/>
              <a:gdLst/>
              <a:ahLst/>
              <a:rect l="l" t="t" r="r" b="b"/>
              <a:pathLst>
                <a:path w="1488" h="504">
                  <a:moveTo>
                    <a:pt x="0" y="496"/>
                  </a:moveTo>
                  <a:cubicBezTo>
                    <a:pt x="184" y="500"/>
                    <a:pt x="368" y="504"/>
                    <a:pt x="480" y="448"/>
                  </a:cubicBezTo>
                  <a:cubicBezTo>
                    <a:pt x="592" y="392"/>
                    <a:pt x="616" y="232"/>
                    <a:pt x="672" y="160"/>
                  </a:cubicBezTo>
                  <a:cubicBezTo>
                    <a:pt x="728" y="88"/>
                    <a:pt x="760" y="32"/>
                    <a:pt x="816" y="16"/>
                  </a:cubicBezTo>
                  <a:cubicBezTo>
                    <a:pt x="872" y="0"/>
                    <a:pt x="936" y="0"/>
                    <a:pt x="1008" y="64"/>
                  </a:cubicBezTo>
                  <a:cubicBezTo>
                    <a:pt x="1080" y="128"/>
                    <a:pt x="1168" y="328"/>
                    <a:pt x="1248" y="400"/>
                  </a:cubicBezTo>
                  <a:cubicBezTo>
                    <a:pt x="1328" y="472"/>
                    <a:pt x="1408" y="484"/>
                    <a:pt x="1488" y="4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1905120"/>
              <a:ext cx="9144000" cy="0"/>
            </a:xfrm>
            <a:prstGeom prst="line">
              <a:avLst/>
            </a:prstGeom>
            <a:ln w="57240">
              <a:solidFill>
                <a:srgbClr val="66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800" y="152280"/>
            <a:ext cx="7927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exo 1: Consejos de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gráf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2209680"/>
            <a:ext cx="854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- El texto incluido debe ser lo más suscinto, con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 preciso po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- Los tamaños y la resolución de las figuras deben 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les que puedan observarse al fondo de la sala (ensay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- Las leyendas deben ser en tamaños y colores li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18:07:08Z</dcterms:created>
  <dc:creator>fasanoy</dc:creator>
  <dc:description/>
  <dc:language>en-US</dc:language>
  <cp:lastModifiedBy>fasanoy</cp:lastModifiedBy>
  <dcterms:modified xsi:type="dcterms:W3CDTF">2016-09-07T13:20:37Z</dcterms:modified>
  <cp:revision>9</cp:revision>
  <dc:subject/>
  <dc:title>Slide 1</dc:title>
</cp:coreProperties>
</file>